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B671-9F22-4CDC-A0E5-FBFE9B28A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984A-01C9-414F-9447-67985FC09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70FE-9C97-4C64-9233-22F21EE22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D7CB-2253-4C61-9D6B-B23CE92C3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5E44-6DE1-48BF-8C6F-D6E2656DA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3F46-366E-47E3-9B9D-CCEB2C198F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60B2-F138-445D-B179-28BE65B909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D57D-76C1-4B62-A038-EE36B5839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8B82-FDF8-48E9-B6D8-29C5806DF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C267-CA73-4C76-9A7E-883844961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3B3C-C206-4542-AFBF-6ADE0FE3F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63EA-7176-49D4-BD34-A3BEFF2D4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2B1B-A3C7-4328-9C4C-38532814B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A6E98-8FDD-492E-826D-375E7CE9D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4963-50D8-4C62-94E7-B65FC5C55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304920" y="152280"/>
            <a:ext cx="36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2057400" y="3238560"/>
            <a:ext cx="670572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SIBLE AND / OR IN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ER RADI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EYE OR SKIN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DIRECT OR SCATTERED RAD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33"/>
          <p:cNvSpPr/>
          <p:nvPr/>
        </p:nvSpPr>
        <p:spPr>
          <a:xfrm>
            <a:off x="2525760" y="2919240"/>
            <a:ext cx="0" cy="3862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76320" y="152280"/>
            <a:ext cx="8991360" cy="2766960"/>
          </a:xfrm>
          <a:prstGeom prst="rect">
            <a:avLst/>
          </a:prstGeom>
          <a:solidFill>
            <a:srgbClr val="ffa1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6320" y="152280"/>
            <a:ext cx="8991360" cy="6629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81080" y="3738600"/>
            <a:ext cx="2260440" cy="201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2"/>
          <a:stretch/>
        </p:blipFill>
        <p:spPr>
          <a:xfrm>
            <a:off x="372960" y="892080"/>
            <a:ext cx="1322640" cy="1154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860400" y="1077840"/>
            <a:ext cx="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ngla MN"/>
                <a:ea typeface="Ayuthaya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98480" y="544680"/>
            <a:ext cx="7256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93000"/>
          </a:bodyPr>
          <a:p>
            <a:pPr marL="36720" algn="ctr">
              <a:lnSpc>
                <a:spcPct val="100000"/>
              </a:lnSpc>
              <a:spcBef>
                <a:spcPts val="5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WARN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33"/>
          <p:cNvSpPr/>
          <p:nvPr/>
        </p:nvSpPr>
        <p:spPr>
          <a:xfrm>
            <a:off x="76320" y="2919240"/>
            <a:ext cx="8991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2870280" y="5079960"/>
            <a:ext cx="3225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er Type: Nd:Y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velength: 1064 nano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Duration: 200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Energy: 75 Jo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. Average Power: 120 Wat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765760" y="5054760"/>
            <a:ext cx="32259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er Type: Erbium Y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velength: 2940 nano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Duration: 500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Energy: 8 Jo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. Average Power: 100 Wat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257800" y="6553080"/>
            <a:ext cx="3809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5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ASS 4 LASER CONTROLLED ARE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E. Hoopman</dc:creator>
  <dc:description/>
  <cp:keywords/>
  <dc:language>en-US</dc:language>
  <cp:lastModifiedBy>Burt Wenger</cp:lastModifiedBy>
  <cp:lastPrinted>2018-08-15T15:18:09Z</cp:lastPrinted>
  <dcterms:modified xsi:type="dcterms:W3CDTF">2018-09-11T19:45:57Z</dcterms:modified>
  <cp:revision>37</cp:revision>
  <dc:subject/>
  <dc:title>PowerPoint Presentation</dc:title>
</cp:coreProperties>
</file>